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BED-A4EA-44A9-AF33-90E3D420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E12-93AA-4DD9-8D0A-4E2BD9A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D4A-D187-4663-8321-AA5A18C4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B29-D4D7-4930-BF00-1A0DA026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A720-F770-470D-9F20-040CEAE6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35F3-0394-4B3B-8291-E40FCDA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9804-5068-4EB3-A0DC-B5A1F1E8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430-B9B0-4F7E-B039-03FFC19E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B24-49AC-4092-B4F6-4631B0CB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3E8B-AD14-4D39-B008-C9E0A4F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3FF0-25C7-49CB-833A-8E5506C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12D-C0AE-4AE4-8C10-1531D3BD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40CC-AD44-4720-883D-F32F301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FF2F-9436-4AD4-8DB4-0B66629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D043-7841-405F-BA14-E7989A3B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E028-CC23-4402-8334-1D9CEC44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85AB-0BE1-40FD-AD1E-09AF4EC0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769-5E53-4AD8-B19C-0C6E3CE5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3C3-2441-4074-A14D-3CFCCAE8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60E-CC2C-441B-89C0-990496E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01B-80A7-412F-B3ED-CF7789C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B3A-B9AE-4079-A8D5-0C9D10E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699-A096-41D6-8707-242C44E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EDD-B297-433A-888E-627386B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7E8-22AC-4D99-8680-D8E01193EC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236-E3F2-404C-AF8B-CC5222F59D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o Tell The Good News – Part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6:16 – 17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Thessalonic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5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’s house is stormed in search of Paul and Si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ere not f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 and certain brethren are taken before the c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ccusation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6-8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and Silas are charged with trouble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ing the world upsid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contrary to the decrees of Cae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ng allegiance to another king,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 was charged with allowing them to stay in his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ason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release on bond and given an invitation to get out of 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 was forced to guarantee peace and qu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ethren there knew it was not safe for Paul and Silas to st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’s 2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issionary Jou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6629400" cy="5504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75248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oday’s Lesson Paul Is At Point 12 on the Map (Philip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33520"/>
            <a:ext cx="30492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Philipp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16-2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ing A Demon-Possessed Gi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rl made money for people by fortunetel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 of Jesus and His gospel freed the girl, but angered those who used her for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were arrested, beaten, and impriso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But, they were free within their hear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ile They Were In Jail...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5-27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iler heard the two men sin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knew they had something special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ddenly, there was a great earthquake, the doors opened, the chains were loo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iler gave himself a death sentence when he thought the prisoners esc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Jailer Is Converted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8-3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gave himself a chance at eternal life when he ask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ust I do to be saved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rd the gospel, believed it and was baptized with an urgent desi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mpare his actions to the Great Commis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as a servant of Jesus Christ, he helped Paul and Si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 and Silas Are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35-4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ies’ f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mistreated Roman citiz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ristian’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ook advantage of physical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returned to Lydia’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et with other believers before leaving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stop: Thessalo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note that Luke stayed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27240"/>
            <a:ext cx="6781680" cy="5630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934320" y="16765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y Passed Through Amphipolis (Point 13) and Apollonia (Point 14) and stop in Thessalonica (Point 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09480"/>
            <a:ext cx="75960" cy="609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33520"/>
            <a:ext cx="75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57200"/>
            <a:ext cx="15228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228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1-3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preached in the synag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asoned with them from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 had to suf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d missed this point as they contemplated the coming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 was also rised from the dead according to their scrip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d missed this point al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rged them to believe that Jesus was the Mess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sults From Preaching The Gospel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4-5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m bel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sulted in some noteworthy conver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t did not beli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so stirred a mob ri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2:41:31Z</dcterms:created>
  <dc:creator>Gateway Client</dc:creator>
  <dc:description/>
  <dc:language>en-US</dc:language>
  <cp:lastModifiedBy>Frank D Vines</cp:lastModifiedBy>
  <dcterms:modified xsi:type="dcterms:W3CDTF">2007-03-07T19:13:58Z</dcterms:modified>
  <cp:revision>13</cp:revision>
  <dc:subject/>
  <dc:title>Go Tell The Good News –Part 1</dc:title>
</cp:coreProperties>
</file>